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12.gif" ContentType="image/gif"/>
  <Override PartName="/ppt/media/image7.gif" ContentType="image/gif"/>
  <Override PartName="/ppt/media/image8.png" ContentType="image/png"/>
  <Override PartName="/ppt/media/image20.gif" ContentType="image/gif"/>
  <Override PartName="/ppt/media/image3.gif" ContentType="image/gif"/>
  <Override PartName="/ppt/media/image16.png" ContentType="image/png"/>
  <Override PartName="/ppt/media/image18.png" ContentType="image/png"/>
  <Override PartName="/ppt/media/image15.gif" ContentType="image/gif"/>
  <Override PartName="/ppt/media/image14.gif" ContentType="image/gif"/>
  <Override PartName="/ppt/media/image17.png" ContentType="image/png"/>
  <Override PartName="/ppt/media/image1.png" ContentType="image/png"/>
  <Override PartName="/ppt/media/image19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9B9A-B78E-448D-88A7-73271CBD8E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You could extend this by adding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ù and a ? to the list of words, to encourage creation of conversation/dialog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0DF-1DB1-4FCB-8C00-4F211397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D62-5571-4D18-9427-EC11C75F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53A-937E-4961-9058-71BBB6AD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5F1-2EAD-4E13-97B8-2A45CBBB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779-03D9-4FA4-992F-7BE89490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199-0694-4F08-A323-89BCB393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039-9A38-48B4-B3BC-BF07392A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F07-1394-4DA7-9867-059BD5EA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FCE-97E6-44BF-A031-B4DE9409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997-A236-40DE-9571-2C5F3A42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841-E8B0-4483-AFCA-93478B0B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36C-22B4-4EE3-B63E-868DE019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985A-4913-4EEF-BD30-5A9902669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 Hallo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8200" cy="2276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435800" y="4581360"/>
            <a:ext cx="1708200" cy="227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268360" y="5734080"/>
            <a:ext cx="5543640" cy="93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95280" y="3716280"/>
            <a:ext cx="3240000" cy="2660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7636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(prepos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manc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bal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 rot="20548200">
            <a:off x="2666880" y="2014200"/>
            <a:ext cx="38102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sorcière est </a:t>
            </a:r>
            <a:r>
              <a:rPr b="0" lang="fr-FR" sz="4000" spc="-1" strike="noStrike">
                <a:solidFill>
                  <a:srgbClr val="ff6600"/>
                </a:solidFill>
                <a:latin typeface="Arial"/>
              </a:rPr>
              <a:t>sur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le manch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bala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34131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2898720" cy="403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5840" cy="227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300720" y="5516640"/>
            <a:ext cx="185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s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227640" y="1197000"/>
            <a:ext cx="1428840" cy="274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00000" y="2276640"/>
            <a:ext cx="3827520" cy="382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2360" y="5661000"/>
            <a:ext cx="1666800" cy="91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d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0.09387 C 0.13385 -0.09526 0.25816 -0.09642 0.28784 -0.07237 C 0.31736 -0.04832 0.18489 0.01665 0.18784 0.04994 C 0.1908 0.0837 0.29496 0.07884 0.30521 0.12832 C 0.31545 0.17734 0.26076 0.30913 0.24965 0.34728 C 0.23854 0.3859 0.23923 0.35445 0.23854 0.35815 C 0.23819 0.36208 0.24236 0.36694 0.24652 0.37179 E">
                                      <p:cBhvr>
                                        <p:cTn id="11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itrou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1008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itrouille est 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o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708360" y="3933720"/>
            <a:ext cx="1800360" cy="1617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332000" y="2320920"/>
            <a:ext cx="6335640" cy="341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75120" y="5465880"/>
            <a:ext cx="239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2720" y="551664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s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at noir est 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o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335640" cy="4103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75120" y="5465880"/>
            <a:ext cx="239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2720" y="551664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s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03640" y="3500280"/>
            <a:ext cx="2638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est le squelet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67280" y="2852280"/>
            <a:ext cx="485928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quelette est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_ _ _ 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 chaud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311280" cy="4392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164360" y="278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d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est le c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4167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hat est </a:t>
            </a: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_ _ __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le manc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 bala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7640" y="450864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s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048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ff6600"/>
                </a:solidFill>
                <a:uFillTx/>
                <a:latin typeface="Arial"/>
              </a:rPr>
              <a:t>Use these words to make spooky sentenc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4248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sorc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squel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hat n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m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fantô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citrou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manc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 bal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cha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haud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5128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6286680"/>
            <a:ext cx="7704000" cy="571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091360" y="5454720"/>
            <a:ext cx="1052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3175200" cy="2120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64000" y="3716280"/>
            <a:ext cx="2232360" cy="223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1840" y="1936800"/>
            <a:ext cx="203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24922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a sorc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5040" y="2757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587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a m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5805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e squel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03280" y="2924280"/>
            <a:ext cx="16146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aud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quelette est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le chaudro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79280" y="3645000"/>
            <a:ext cx="180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d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11014200">
            <a:off x="6156360" y="1483920"/>
            <a:ext cx="137160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0388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omie est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le chaudro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79280" y="3645000"/>
            <a:ext cx="180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d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16360" y="2276640"/>
            <a:ext cx="4038840" cy="388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rot="12095400">
            <a:off x="4741200" y="1845720"/>
            <a:ext cx="3313080" cy="2801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sorcière est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le chaudro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79280" y="3645000"/>
            <a:ext cx="180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d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40388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ha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2083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omie est 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 cha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32360" y="3212640"/>
            <a:ext cx="13636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s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2120760" cy="295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20876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quelette est 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 cha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32360" y="3212640"/>
            <a:ext cx="13636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s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2120760" cy="2951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1371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8:52:18Z</dcterms:created>
  <dc:creator>Jo Rhys-Jones</dc:creator>
  <dc:description/>
  <dc:language>en-US</dc:language>
  <cp:lastModifiedBy>Jo Rhys-Jones</cp:lastModifiedBy>
  <dcterms:modified xsi:type="dcterms:W3CDTF">2007-10-20T10:22:44Z</dcterms:modified>
  <cp:revision>13</cp:revision>
  <dc:subject/>
  <dc:title>L’ Halloween</dc:title>
</cp:coreProperties>
</file>